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DF9-3E9A-4212-BCFE-3E1499A0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48C-F2C4-4077-A569-C422E765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A32-EBB7-4CBC-99C4-8D25BB87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3E5-EB72-4ED1-B30F-1DE3D125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0A78-557D-4936-A7A0-184A4DFC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F85D-58EB-4B39-804E-982E6622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ADE8-23A4-4B7E-9F5A-1215FB18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40D4-147A-4F09-AD64-6D355D36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7B32-2FC2-45D8-868B-2DBEC613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7568-6808-4B69-91C0-D1C6AA74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0E9-8A87-4469-96B5-4A5D475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5C3-2CB0-4111-A460-C7BF5BD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6656-923B-4BAE-A475-07747471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739C-A5F9-44F0-A83F-95218051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89B8-962C-417A-AE67-BAEC3AFC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4AEC-0D08-4601-812F-23523F2B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B32D-152A-4B8F-8D59-FAB47947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047-1C68-4214-954F-07583DEB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C12-996E-46F7-92FA-E52CEF78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96C-B153-458A-82CC-314F9F88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761-B83F-4104-846C-7EFF2B91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285-15AA-4770-89FA-F7F96DCA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471-75E3-4C7C-93A1-5F791ECE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D6F-ECBB-4C30-A190-B2D9FE28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4FA9-8609-4AC6-BF49-CF521BDDDD0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5ED-FADC-4DCD-9BC3-B01BE7F389E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Lantau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二東山"/>
          <p:cNvPicPr/>
          <p:nvPr/>
        </p:nvPicPr>
        <p:blipFill>
          <a:blip r:embed="rId1"/>
          <a:stretch/>
        </p:blipFill>
        <p:spPr>
          <a:xfrm>
            <a:off x="826920" y="2997360"/>
            <a:ext cx="762012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Discovery Bay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South Lantau"/>
          <p:cNvPicPr/>
          <p:nvPr/>
        </p:nvPicPr>
        <p:blipFill>
          <a:blip r:embed="rId1"/>
          <a:stretch/>
        </p:blipFill>
        <p:spPr>
          <a:xfrm>
            <a:off x="755640" y="1773360"/>
            <a:ext cx="76201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Mui Wo"/>
          <p:cNvPicPr/>
          <p:nvPr/>
        </p:nvPicPr>
        <p:blipFill>
          <a:blip r:embed="rId1"/>
          <a:stretch/>
        </p:blipFill>
        <p:spPr>
          <a:xfrm>
            <a:off x="539640" y="1916280"/>
            <a:ext cx="8229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lanning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ing high-quality natural landscape, ecological environment and cultural heritage 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Roman’s Frog breeding field should be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of reclamation imposed by shipping channels and water quality and hydrological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ircraft noise which prohibits the development of noise sensitive uses in certain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velopment restrictions to protect Hong Kong Disneyland from visual intrusion and incompatible 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ustainable development of Lantau by balancing development and conservation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ocus major economic infrastructure and urban development in North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optimize the use of the existing and planned transport links and infra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otecting the other parts of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mprise primarily high-quality landscape and ecologically sensitive natural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or nature conservation and environmentally sustainable recreational and visitor 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ximize the utilization and development potential of HK International Air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ogistics Park in Siu Ho Wan to enhance Hong Kong's position as a regional logistics cen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ong Kong Section of the HZMB and the North Lantau Highway Connection along the northern sh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velop possible theme park or recreational uses at the Tung Chung East waterfr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velop resorts with suitable anchor facilities in keeping with the rural character and natural landscape at selective locations in South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nhance the visitor appeal of Ngong Ping based on its religious heritage and improved access by cable c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Tung Chung Cable Car"/>
          <p:cNvPicPr/>
          <p:nvPr/>
        </p:nvPicPr>
        <p:blipFill>
          <a:blip r:embed="rId1"/>
          <a:stretch/>
        </p:blipFill>
        <p:spPr>
          <a:xfrm>
            <a:off x="4648320" y="2085840"/>
            <a:ext cx="40384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ground of the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antau Island is the biggest island in Hong K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ell recognized for its nature conservation and recreatio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004 Policy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conomic and infrastructure development in Lant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ung Ch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w town for 220 000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ith adequate community facilities and regional facilities serving the whole of Lant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.g. Planning of Tung Chung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w town extension would focus on Tung Chung West and 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limited growth of the existing rural and sub-urban clusters at Mui Wo, South Lantau and Discovery B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eserve the character of the surrounding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aximize the potential of rural Lantau for sustainable recreational and visito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omoting sustainable recreational uses in South Lantau and Mui 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eserving the Tai O fishing vill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romoting countryside recreation in and around the country park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Planning concep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onserve the cultural heritage of Lanta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conserve high-quality natural landscape and ecologically sensitive natural enviro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Lantau North and Lantau South Country Park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proposed Lantau North Country Park exten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marine park in the waters around Southwest Lantau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Is it a balanced develop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develop the northern part of Lantau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try the best to preserve the cultural and natural features of Lantau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ral area of Lantau Island will have low level of developmen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Is it a balanced develop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amation for constructing HZ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Dolphin may be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elopment may exten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afraid the development will change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 a HK citize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ontribute ideas and opinions to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onitor the developmen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Background of the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ong Kong's economy becomes more    service-b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orth Lantau is impor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rengthening the main economic pillars of tourism and logistics develop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Background of the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ar to the air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good transpor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 world class theme park------ Disne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cenic natural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nique potential for a greater variety of tourist att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frastructure on Lantau Is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g Kong International Air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香港國際機場"/>
          <p:cNvPicPr/>
          <p:nvPr/>
        </p:nvPicPr>
        <p:blipFill>
          <a:blip r:embed="rId1"/>
          <a:stretch/>
        </p:blipFill>
        <p:spPr>
          <a:xfrm>
            <a:off x="1979640" y="2708280"/>
            <a:ext cx="5038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Infrastructure on Lantau Is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Tung Chung Cable 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Tung Chung Cable Car"/>
          <p:cNvPicPr/>
          <p:nvPr/>
        </p:nvPicPr>
        <p:blipFill>
          <a:blip r:embed="rId1"/>
          <a:stretch/>
        </p:blipFill>
        <p:spPr>
          <a:xfrm>
            <a:off x="2627280" y="2637000"/>
            <a:ext cx="39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Developed area on Lantau Is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Lantau Island"/>
          <p:cNvPicPr/>
          <p:nvPr/>
        </p:nvPicPr>
        <p:blipFill>
          <a:blip r:embed="rId1"/>
          <a:stretch/>
        </p:blipFill>
        <p:spPr>
          <a:xfrm>
            <a:off x="1403280" y="1484280"/>
            <a:ext cx="62280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Tung Chung"/>
          <p:cNvPicPr/>
          <p:nvPr/>
        </p:nvPicPr>
        <p:blipFill>
          <a:blip r:embed="rId1"/>
          <a:stretch/>
        </p:blipFill>
        <p:spPr>
          <a:xfrm>
            <a:off x="395280" y="2637000"/>
            <a:ext cx="7620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Tai O"/>
          <p:cNvPicPr/>
          <p:nvPr/>
        </p:nvPicPr>
        <p:blipFill>
          <a:blip r:embed="rId1"/>
          <a:stretch/>
        </p:blipFill>
        <p:spPr>
          <a:xfrm>
            <a:off x="1116000" y="1557360"/>
            <a:ext cx="684072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5:48:16Z</dcterms:created>
  <dc:creator>Sarah</dc:creator>
  <dc:description/>
  <dc:language>en-US</dc:language>
  <cp:lastModifiedBy>Sarah</cp:lastModifiedBy>
  <dcterms:modified xsi:type="dcterms:W3CDTF">2005-12-27T17:25:20Z</dcterms:modified>
  <cp:revision>2</cp:revision>
  <dc:subject/>
  <dc:title>Development of Lantau Island</dc:title>
</cp:coreProperties>
</file>