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E7F-135C-4E7F-9021-E62239DD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5B4-F4BC-46DA-B955-7E195DF9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2E4-A60E-4A98-ADEF-5CE9C3B2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DC2-530A-4B3F-A18C-C219E393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1159-39E2-44D4-8DD6-33504CA2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5DCB-B0C0-4101-B173-A9A46A4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D68B-6C7B-4A16-A070-BBB096F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8602-AAC5-4D5B-84CB-FBD407A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BA0-1D01-41B8-8711-7B0E041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EA10-5641-49DA-B6E6-827F8176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EE8-AA07-43D7-B90D-DBDA368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F91-7B32-431A-99EB-BD108BA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BB98-6BE1-42DD-9076-7D5EF1C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22EE-FA02-4283-9C7A-5EA1464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FDF-DED3-41FA-A189-EE9C8D1F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B3F8-5C68-4009-801E-AD07021C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58FC-6EB9-4118-A31F-53240911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4EB-A26E-4453-BAA4-999291E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58F-C580-4E47-BFB8-534871F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31D-52CD-4F5A-8393-0EA10C6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747-9FD8-41DD-B37C-4736555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89D-1A1C-4BFA-8C03-1544E86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E7E-4C08-4D23-9A9B-9C459A5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384-5E11-4C97-87C3-22DFA4D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D2F-E657-4C3B-BAFC-93896ACA541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F96-2F46-4616-8555-8A4F3A8E640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Lantau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二東山"/>
          <p:cNvPicPr/>
          <p:nvPr/>
        </p:nvPicPr>
        <p:blipFill>
          <a:blip r:embed="rId1"/>
          <a:stretch/>
        </p:blipFill>
        <p:spPr>
          <a:xfrm>
            <a:off x="826920" y="2997360"/>
            <a:ext cx="762012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Discovery Bay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South Lantau"/>
          <p:cNvPicPr/>
          <p:nvPr/>
        </p:nvPicPr>
        <p:blipFill>
          <a:blip r:embed="rId1"/>
          <a:stretch/>
        </p:blipFill>
        <p:spPr>
          <a:xfrm>
            <a:off x="755640" y="1773360"/>
            <a:ext cx="7620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Mui Wo"/>
          <p:cNvPicPr/>
          <p:nvPr/>
        </p:nvPicPr>
        <p:blipFill>
          <a:blip r:embed="rId1"/>
          <a:stretch/>
        </p:blipFill>
        <p:spPr>
          <a:xfrm>
            <a:off x="539640" y="1916280"/>
            <a:ext cx="8229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ing high-quality natural landscape, ecological environment and cultural heritage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man’s Frog breeding field should be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of reclamation imposed by shipping channels and water quality and hydrologic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ircraft noise which prohibits the development of noise sensitive uses in certain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ment restrictions to protect Hong Kong Disneyland from visual intrusion and incompatible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ustainable development of Lantau by balancing development and conservation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cus major economic infrastructure and urban development in Nor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ptimize the use of the existing and planned transport links and 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tecting the other parts of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mprise primarily high-quality landscape and ecologically sensitive natural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r nature conservation and environmentally sustainable recreational and visitor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utilization and development potential of HK International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gistics Park in Siu Ho Wan to enhance Hong Kong's position as a regional logistics cen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 Section of the HZMB and the North Lantau Highway Connection along the northern sh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possible theme park or recreational uses at the Tung Chung East waterfr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resorts with suitable anchor facilities in keeping with the rural character and natural landscape at selective locations in Sou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nhance the visitor appeal of Ngong Ping based on its religious heritage and improved access by cable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Tung Chung Cable Car"/>
          <p:cNvPicPr/>
          <p:nvPr/>
        </p:nvPicPr>
        <p:blipFill>
          <a:blip r:embed="rId1"/>
          <a:stretch/>
        </p:blipFill>
        <p:spPr>
          <a:xfrm>
            <a:off x="4648320" y="2085840"/>
            <a:ext cx="40384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antau Island is the biggest island in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ll recognized for its nature conservation and recreatio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4 Policy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conomic and infrastructure development in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for 220 000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ith adequate community facilities and regional facilities serving the whole of Lant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.g. Planning of Tung Chung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extension would focus on Tung Chung West and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imited growth of the existing rural and sub-urban clusters at Mui Wo, South Lantau and Discovery B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e the character of the surrounding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potential of rural Lantau for sustainable recreational and visito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sustainable recreational uses in South Lantau and Mui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ing the Tai O fishing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countryside recreation in and around the country park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the cultural heritage of Lanta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high-quality natural landscape and ecologically sensitive natural enviro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Lantau North and Lantau South Country Par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proposed Lantau North Country Park exten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arine park in the waters around Southwest Lanta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develop the northern part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try the best to preserve the cultural and natural features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area of Lantau Island will have low level of developmen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amation for constructing HZ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Dolphin may be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elopment may exten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fraid the development will change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 a HK citize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ntribute ideas and opinions to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nitor the developmen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's economy becomes more    service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orth Lantau is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rengthening the main economic pillars of tourism and logistics develop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ar to the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ood trans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world class theme park------ Disne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cenic natural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nique potential for a greater variety of tourist att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Kong International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香港國際機場"/>
          <p:cNvPicPr/>
          <p:nvPr/>
        </p:nvPicPr>
        <p:blipFill>
          <a:blip r:embed="rId1"/>
          <a:stretch/>
        </p:blipFill>
        <p:spPr>
          <a:xfrm>
            <a:off x="1979640" y="2708280"/>
            <a:ext cx="5038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Cable 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Tung Chung Cable Car"/>
          <p:cNvPicPr/>
          <p:nvPr/>
        </p:nvPicPr>
        <p:blipFill>
          <a:blip r:embed="rId1"/>
          <a:stretch/>
        </p:blipFill>
        <p:spPr>
          <a:xfrm>
            <a:off x="2627280" y="2637000"/>
            <a:ext cx="39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Developed area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Lantau Island"/>
          <p:cNvPicPr/>
          <p:nvPr/>
        </p:nvPicPr>
        <p:blipFill>
          <a:blip r:embed="rId1"/>
          <a:stretch/>
        </p:blipFill>
        <p:spPr>
          <a:xfrm>
            <a:off x="1403280" y="1484280"/>
            <a:ext cx="6228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Tung Chung"/>
          <p:cNvPicPr/>
          <p:nvPr/>
        </p:nvPicPr>
        <p:blipFill>
          <a:blip r:embed="rId1"/>
          <a:stretch/>
        </p:blipFill>
        <p:spPr>
          <a:xfrm>
            <a:off x="395280" y="2637000"/>
            <a:ext cx="762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Tai O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5:48:16Z</dcterms:created>
  <dc:creator>Sarah</dc:creator>
  <dc:description/>
  <dc:language>en-US</dc:language>
  <cp:lastModifiedBy>Sarah</cp:lastModifiedBy>
  <dcterms:modified xsi:type="dcterms:W3CDTF">2005-12-27T17:25:20Z</dcterms:modified>
  <cp:revision>2</cp:revision>
  <dc:subject/>
  <dc:title>Development of Lantau Island</dc:title>
</cp:coreProperties>
</file>