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2485-2D27-4418-B331-FF59F3579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3FE9-E70C-4179-9BA4-02F78B03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5148-321C-472D-ABC8-923AD64B1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889B-C9D3-4390-850D-716C02D21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EF9D-967F-44B9-B9FD-D36D56422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1AD2-3FD7-44EC-AD6E-DAB9EB50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2309-4562-49FC-B5AE-FB51E70C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FF5D-14F7-49BF-AC91-7DDDED99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5E5C-5E48-43BD-84C6-6B728CEE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9011-4E98-464F-886B-661E5C94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7099-0B3E-4EEE-8219-D4D2FB13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C88E-0FCE-41CE-A1C7-EF526D1A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A6CD-AF30-428C-B173-1A80C772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7FE6-CA6B-4740-817D-D3363592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7A15-E486-48E6-BA6C-5FC93434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8126-0B08-42A6-A928-4734D9AD5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65E7-2C8B-440A-97FD-689A5E0F1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C5A9-C495-408E-B73E-697B3802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EC5C-D708-4F48-88D4-C6625E15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DD87-99EC-4F48-8558-3977B9B2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E775-6679-452A-9BEF-A1A21943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E01F-5054-4DAB-96F1-4CC02C23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548D-F4BA-4EA5-B2C2-1C9E0DAB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DB41-7A1D-48BD-8954-DAA7FE86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6C12-1F47-4D1F-AC9F-0CB319D4BBE1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087B-BF1C-4551-8405-94BDB1DB59E3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of Lantau Is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二東山"/>
          <p:cNvPicPr/>
          <p:nvPr/>
        </p:nvPicPr>
        <p:blipFill>
          <a:blip r:embed="rId1"/>
          <a:stretch/>
        </p:blipFill>
        <p:spPr>
          <a:xfrm>
            <a:off x="826920" y="2997360"/>
            <a:ext cx="7620120" cy="30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Discovery Bay"/>
          <p:cNvPicPr/>
          <p:nvPr/>
        </p:nvPicPr>
        <p:blipFill>
          <a:blip r:embed="rId1"/>
          <a:stretch/>
        </p:blipFill>
        <p:spPr>
          <a:xfrm>
            <a:off x="457200" y="1824120"/>
            <a:ext cx="8229600" cy="27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South Lantau"/>
          <p:cNvPicPr/>
          <p:nvPr/>
        </p:nvPicPr>
        <p:blipFill>
          <a:blip r:embed="rId1"/>
          <a:stretch/>
        </p:blipFill>
        <p:spPr>
          <a:xfrm>
            <a:off x="755640" y="1773360"/>
            <a:ext cx="762012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Mui Wo"/>
          <p:cNvPicPr/>
          <p:nvPr/>
        </p:nvPicPr>
        <p:blipFill>
          <a:blip r:embed="rId1"/>
          <a:stretch/>
        </p:blipFill>
        <p:spPr>
          <a:xfrm>
            <a:off x="539640" y="1916280"/>
            <a:ext cx="822960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lanning consider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rving high-quality natural landscape, ecological environment and cultural heritage si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Roman’s Frog breeding field should be con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 of reclamation imposed by shipping channels and water quality and hydrological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Planning consider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ircraft noise which prohibits the development of noise sensitive uses in certain ar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evelopment restrictions to protect Hong Kong Disneyland from visual intrusion and incompatible u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Planning concep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ustainable development of Lantau by balancing development and conservation nee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focus major economic infrastructure and urban development in North Lanta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optimize the use of the existing and planned transport links and infrastruc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Planning concep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rotecting the other parts of Lanta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omprise primarily high-quality landscape and ecologically sensitive natural enviro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for nature conservation and environmentally sustainable recreational and visitor u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Planning concep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aximize the utilization and development potential of HK International Air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Logistics Park in Siu Ho Wan to enhance Hong Kong's position as a regional logistics cent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Hong Kong Section of the HZMB and the North Lantau Highway Connection along the northern sho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Planning concep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evelop possible theme park or recreational uses at the Tung Chung East waterfro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evelop resorts with suitable anchor facilities in keeping with the rural character and natural landscape at selective locations in South Lanta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Planning concep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enhance the visitor appeal of Ngong Ping based on its religious heritage and improved access by cable c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Tung Chung Cable Car"/>
          <p:cNvPicPr/>
          <p:nvPr/>
        </p:nvPicPr>
        <p:blipFill>
          <a:blip r:embed="rId1"/>
          <a:stretch/>
        </p:blipFill>
        <p:spPr>
          <a:xfrm>
            <a:off x="4648320" y="2085840"/>
            <a:ext cx="403848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ackground of the develop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Lantau Island is the biggest island in Hong K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ell recognized for its nature conservation and recreation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004 Policy Addr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economic and infrastructure development in Lanta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Planning concep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ung Chu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new town for 220 000 citiz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ith adequate community facilities and regional facilities serving the whole of Lant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e.g. Planning of Tung Chung Hospi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new town extension would focus on Tung Chung West and Ea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Planning concep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limited growth of the existing rural and sub-urban clusters at Mui Wo, South Lantau and Discovery B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reserve the character of the surrounding enviro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Planning concep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aximize the potential of rural Lantau for sustainable recreational and visitor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romoting sustainable recreational uses in South Lantau and Mui W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reserving the Tai O fishing vill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romoting countryside recreation in and around the country park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Planning concep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onserve the cultural heritage of Lantau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onserve high-quality natural landscape and ecologically sensitive natural environm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Lantau North and Lantau South Country Park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proposed Lantau North Country Park extens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marine park in the waters around Southwest Lantau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Is it a balanced develop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ly develop the northern part of Lantau I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try the best to preserve the cultural and natural features of Lantau I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ural area of Lantau Island will have low level of development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Is it a balanced develop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lamation for constructing HZ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Dolphin may be aff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velopment may extend in the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afraid the development will change in 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s a HK citizen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ontribute ideas and opinions to the gover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onitor the developmen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Background of the develop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Hong Kong's economy becomes more    service-b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North Lantau is importa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rengthening the main economic pillars of tourism and logistics develop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Background of the develop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Near to the air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good transport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 world class theme park------ Disney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cenic natural set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unique potential for a greater variety of tourist att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frastructure on Lantau Islan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ng Kong International Air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香港國際機場"/>
          <p:cNvPicPr/>
          <p:nvPr/>
        </p:nvPicPr>
        <p:blipFill>
          <a:blip r:embed="rId1"/>
          <a:stretch/>
        </p:blipFill>
        <p:spPr>
          <a:xfrm>
            <a:off x="1979640" y="2708280"/>
            <a:ext cx="50385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Infrastructure on Lantau Islan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ung Chung Cable C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Tung Chung Cable Car"/>
          <p:cNvPicPr/>
          <p:nvPr/>
        </p:nvPicPr>
        <p:blipFill>
          <a:blip r:embed="rId1"/>
          <a:stretch/>
        </p:blipFill>
        <p:spPr>
          <a:xfrm>
            <a:off x="2627280" y="2637000"/>
            <a:ext cx="3924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Developed area on Lantau Islan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Lantau Island"/>
          <p:cNvPicPr/>
          <p:nvPr/>
        </p:nvPicPr>
        <p:blipFill>
          <a:blip r:embed="rId1"/>
          <a:stretch/>
        </p:blipFill>
        <p:spPr>
          <a:xfrm>
            <a:off x="1403280" y="1484280"/>
            <a:ext cx="622800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Tung Chung"/>
          <p:cNvPicPr/>
          <p:nvPr/>
        </p:nvPicPr>
        <p:blipFill>
          <a:blip r:embed="rId1"/>
          <a:stretch/>
        </p:blipFill>
        <p:spPr>
          <a:xfrm>
            <a:off x="395280" y="2637000"/>
            <a:ext cx="76201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Tai O"/>
          <p:cNvPicPr/>
          <p:nvPr/>
        </p:nvPicPr>
        <p:blipFill>
          <a:blip r:embed="rId1"/>
          <a:stretch/>
        </p:blipFill>
        <p:spPr>
          <a:xfrm>
            <a:off x="1116000" y="1557360"/>
            <a:ext cx="684072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7T15:48:16Z</dcterms:created>
  <dc:creator>Sarah</dc:creator>
  <dc:description/>
  <dc:language>en-US</dc:language>
  <cp:lastModifiedBy>Sarah</cp:lastModifiedBy>
  <dcterms:modified xsi:type="dcterms:W3CDTF">2005-12-27T17:25:20Z</dcterms:modified>
  <cp:revision>2</cp:revision>
  <dc:subject/>
  <dc:title>Development of Lantau Island</dc:title>
</cp:coreProperties>
</file>